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D39-A2BE-49F5-8F43-50EAE2E7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31B-AE9B-4138-B3F6-5A11C7E9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B72-78C9-4744-AF38-D7AE2908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307-E180-4337-BB39-0652CDA0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68F0-647D-451E-801F-050434DD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2A02-DFBF-405F-B66F-C8C07B64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11E2-7B2A-465A-89A1-7FA417F1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B5E8-6642-4E46-AF16-BD0EF64F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D727-8052-41C9-B33C-F97C53B7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C0C9-2832-4C1F-A793-3E6219EF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29D5-7E62-46A3-B175-913F859F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2D3E-D576-42E9-9A14-B1730B21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43F6-00CC-4A28-93E3-08FAB1F8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2BF2-220A-4CE4-BBF9-7023ECA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56BD-56C0-4DE4-BADF-FE49797C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8566-AE09-4BE2-AFBF-3C841BA5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2468-73E3-4812-8988-55947203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9913-BA61-49FE-AF26-5C30DE47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07DE2-8C6E-405B-B8A5-76765F3C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8DC3B-F095-4783-9AC7-F9288B4B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EA93-4A29-4B18-9E54-DE427071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15822-C424-41CF-87B3-1C960C93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C49-679F-41D5-9F9F-0099A2BE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787D4-478C-49BC-9687-E24E70F5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9F25A-A6E6-498E-88C1-6C142FE4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B7F62-8A04-4090-B72D-26FCB78A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46A4-1850-4AB5-97B5-18F2A35C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4CD25-3259-4BDB-BD1C-F0F0E480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36F2-E786-4BB4-A311-7CFA27B8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8C1CB-90B6-4FDA-8068-5BEDD879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B490C-AB97-4F64-A0E4-84AB5BD2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F9B91-C933-4A13-A320-E5F657CC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1B0E-08CE-4F73-8301-86DD1F70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A12-9912-4785-B0EA-32608320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B454-028E-4F8E-95C5-B87AE481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BF6B9-CF70-4FF9-9C90-E24DE992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7E68A-771A-49D0-85D1-9EDEFDFB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2FE60-507C-45E0-9AD1-9C565462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6E4EA-8177-4D2C-9D73-7DFE252E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34F5-25A3-42A4-932C-6CE9239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9833-5915-4B23-B40E-F74A2BD3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CEE2D-83FC-4F69-A5D3-B44A68FE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71CED-B0E3-41E0-972E-A6C6E582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C830-91A9-43D8-92BA-4B57F3FA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5CB-5823-489D-B733-0A9588A1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A6DBD-3B25-4032-A640-2980F88E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4BE02-79EC-4E70-9143-20397352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BA331-F194-4333-9758-549631BA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91ED0-153C-486E-B7D5-84E1C4EB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9383E-4692-4F64-BE67-6935230B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C899-19BB-4867-B39B-7879EEE7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C0CB2-0963-4B0E-A2FB-3FCB7D5A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4744-2B9A-44C4-A86C-58E47243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2CACD-B695-49C6-99B9-BD1DFA80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6FBC6-9F13-4569-8C61-B5C29732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D53-70E0-4D1B-B635-2BF896B5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4A3E-47DB-4332-BCDE-BF41A562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934B-9C27-4FDF-ADD3-9543671B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16F-1E41-487D-8537-00FAAA60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50A-9835-47CD-860F-18299F01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DE14-998E-4341-B38F-0D4373005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7A27-7A96-4B70-B232-D5288B2A3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4B7-0C4B-4F15-9653-FF2F2E0C9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6DC8-8550-435A-B416-31164CEBE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A76B-1833-4EB9-AF5B-072830120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5f6d"/>
                </a:solidFill>
                <a:latin typeface="Verdana"/>
              </a:rPr>
              <a:t>See Opening Checklist on the Website for a Detail 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Basics of Opening a Hotel</a:t>
            </a:r>
            <a:endParaRPr b="0" lang="en-US" sz="4000" spc="-1" strike="noStrike">
              <a:solidFill>
                <a:srgbClr val="575f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4a7"/>
                </a:solidFill>
                <a:latin typeface="Verdana"/>
              </a:rPr>
              <a:t>The ar</a:t>
            </a:r>
            <a:r>
              <a:rPr b="1" lang="en-US" sz="2900" spc="-1" strike="noStrike">
                <a:solidFill>
                  <a:srgbClr val="7030a0"/>
                </a:solidFill>
                <a:latin typeface="Verdana"/>
              </a:rPr>
              <a:t>The General Manager(GM) or </a:t>
            </a:r>
            <a:br>
              <a:rPr sz="2900"/>
            </a:br>
            <a:r>
              <a:rPr b="1" lang="en-US" sz="2900" spc="-1" strike="noStrike">
                <a:solidFill>
                  <a:srgbClr val="7030a0"/>
                </a:solidFill>
                <a:latin typeface="Verdana"/>
              </a:rPr>
              <a:t>Operations Project Manager (OPM) </a:t>
            </a:r>
            <a:r>
              <a:rPr b="0" lang="en-US" sz="2900" spc="-1" strike="noStrike">
                <a:solidFill>
                  <a:srgbClr val="7030a0"/>
                </a:solidFill>
                <a:latin typeface="Verdana"/>
              </a:rPr>
              <a:t>should :</a:t>
            </a:r>
            <a:br>
              <a:rPr sz="2900"/>
            </a:br>
            <a:r>
              <a:rPr b="1" lang="en-US" sz="3200" spc="-1" strike="noStrike">
                <a:solidFill>
                  <a:srgbClr val="fff4a7"/>
                </a:solidFill>
                <a:latin typeface="Verdana"/>
              </a:rPr>
              <a:t>t and science of opening a hotel</a:t>
            </a:r>
            <a:endParaRPr b="0" lang="en-US" sz="32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the blueprints and specifications for the entire buil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ist in creation of model ro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pre-opening staff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and manage pre-opening 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operational supplies and equipment 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see the purchase, delivery and installation of supplies and equi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Blueprints</a:t>
            </a: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92888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ensure good flow for guests, staff and go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der the loca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r pa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llhop bag storage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keeper’s clos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urants and cafes / kitche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Pre-Opening Staff Plan:</a:t>
            </a:r>
            <a:endParaRPr b="0" lang="en-US" sz="3200" spc="-1" strike="noStrike">
              <a:solidFill>
                <a:srgbClr val="575f6d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aw up an organization chart with all pos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aw up spreadsheet consisting o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on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nus and allow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bor costs 4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taken from pre-opening staff pl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les and marketing efforts 4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advertising and promotion, contracts, public relations, and travelling to see client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scellaneous 2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office space before moving, utilities, recruitment and selection costs, licenses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Pre-Opening Budget:</a:t>
            </a:r>
            <a:endParaRPr b="0" lang="en-US" sz="3200" spc="-1" strike="noStrike">
              <a:solidFill>
                <a:srgbClr val="575f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0" y="160020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$8000 to $10000 per room for 4 or 5 star hot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exceed 2500 items (more for full service resort, less for in city business hot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office and lobby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room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and beverage (F&amp;B)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nquet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tchen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ive office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 uni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Operational Supplies and Equipment</a:t>
            </a: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575f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4:13:32Z</dcterms:created>
  <dc:creator>robert</dc:creator>
  <dc:description/>
  <dc:language>en-US</dc:language>
  <cp:lastModifiedBy>robert</cp:lastModifiedBy>
  <dcterms:modified xsi:type="dcterms:W3CDTF">2011-03-31T14:24:17Z</dcterms:modified>
  <cp:revision>2</cp:revision>
  <dc:subject/>
  <dc:title>The Basics of Opening a Hotel</dc:title>
</cp:coreProperties>
</file>